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0F73-9F29-4644-8604-DC86D3574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505B-140C-4F41-B898-D9B9D94F0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28A2-9DD2-48EF-A98D-9E97D2AD8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EBED-EA41-470A-B0DE-07464DF0D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98A1-8334-4055-A9C1-33A84F1B1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83E4-1733-4493-9990-62005F2F8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3590-825C-41F7-9552-D5E983412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BB3F-F979-44E3-AFA2-01B60E100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5168-2707-4336-A83D-09E485A3A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31AB-C8F4-42D2-87B3-ED25B4FAA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8BB3-4DDA-45B7-8D5D-1775E95B5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E541-B056-4A65-B4BE-7519FDD0E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745C-30D4-484A-894C-F94910F15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5F95-A12C-48B5-9398-28FDE3A44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C9DC-C8EF-4E31-9700-78616D196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176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3980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372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8176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3980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5640120"/>
            <a:ext cx="25905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805520" y="65221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IITA_large-sienna [Converted]"/>
          <p:cNvPicPr/>
          <p:nvPr/>
        </p:nvPicPr>
        <p:blipFill>
          <a:blip r:embed="rId2"/>
          <a:stretch/>
        </p:blipFill>
        <p:spPr>
          <a:xfrm>
            <a:off x="304920" y="228600"/>
            <a:ext cx="13716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85800" y="990720"/>
            <a:ext cx="79995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earch design and opportunities for evalu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09480" y="411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990720" y="4344120"/>
            <a:ext cx="72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Feed the Future Africa RISING (Research in Sustainable Intensification for the Next Gene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&amp; Evaluation Expert Meeting, September 5-7, 2012, Addis Ababa, 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: M-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626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: M-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39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38088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ll innovations at the market pr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hoose villages without innovations and randomly choose subset of villages to sell inno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andomized offer of production and marketing contracts to entire treatment vill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523880" y="152280"/>
            <a:ext cx="715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Supply-side: Introduce to entire villages mimicking marke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10760" cy="44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762120" y="5715000"/>
          <a:ext cx="7543800" cy="981000"/>
        </p:xfrm>
        <a:graphic>
          <a:graphicData uri="http://schemas.openxmlformats.org/drawingml/2006/table">
            <a:tbl>
              <a:tblPr/>
              <a:tblGrid>
                <a:gridCol w="1753920"/>
                <a:gridCol w="1608120"/>
                <a:gridCol w="673200"/>
                <a:gridCol w="1728720"/>
                <a:gridCol w="1779840"/>
              </a:tblGrid>
              <a:tr h="2462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orward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o Forward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+ Fertil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ertilizer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+ Fertil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ertilizer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4"/>
          <p:cNvSpPr/>
          <p:nvPr/>
        </p:nvSpPr>
        <p:spPr>
          <a:xfrm>
            <a:off x="1523880" y="152280"/>
            <a:ext cx="715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Supply-side: Introduce to entire villages mimicking marke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45720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some randomly selected groups of households in different settings at multiple sites the same technologies and deliver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-based meta-analysis of the effects of th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-based prediction of effects of subsequent implementation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3504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What are options for SI          poverty, nutrition, ecosystem st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What are processes/mechanisms for integrating &amp; delivering SI innov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ow improve livelihoods out of poverty/improve nutri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ow upscale/disseminate integrated innovations for SI beyond AR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5"/>
          <p:cNvCxnSpPr/>
          <p:nvPr/>
        </p:nvCxnSpPr>
        <p:spPr>
          <a:xfrm>
            <a:off x="4419720" y="1142640"/>
            <a:ext cx="762480" cy="10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2860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rigorous research design (hypotheses, parameters, puzzle, analytical methods, data collection) + appropriate counterfactuals/controls for confounding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move away from on-farm plot-level randomized trials to design that allows farmers to select into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quasi-experimental and experimental (R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28600" y="4572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global best practic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Ts “gold standa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IPGs: internationally generalizable lessons: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leverage public-private-civil society partnerships funded by USAID already on the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link supply and demand side 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68200" y="1396800"/>
            <a:ext cx="8585280" cy="50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523880" y="152280"/>
            <a:ext cx="7153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Random 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7136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3"/>
          <p:cNvSpPr/>
          <p:nvPr/>
        </p:nvSpPr>
        <p:spPr>
          <a:xfrm>
            <a:off x="17136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2"/>
          <p:cNvGrpSpPr/>
          <p:nvPr/>
        </p:nvGrpSpPr>
        <p:grpSpPr>
          <a:xfrm>
            <a:off x="2949480" y="1449360"/>
            <a:ext cx="6194160" cy="4819320"/>
            <a:chOff x="2949480" y="1449360"/>
            <a:chExt cx="6194160" cy="4819320"/>
          </a:xfrm>
        </p:grpSpPr>
        <p:sp>
          <p:nvSpPr>
            <p:cNvPr id="62" name="AutoShape 71"/>
            <p:cNvSpPr/>
            <p:nvPr/>
          </p:nvSpPr>
          <p:spPr>
            <a:xfrm>
              <a:off x="2949480" y="1449360"/>
              <a:ext cx="6194160" cy="48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3"/>
            <p:cNvSpPr/>
            <p:nvPr/>
          </p:nvSpPr>
          <p:spPr>
            <a:xfrm>
              <a:off x="2984400" y="1451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4"/>
            <p:cNvSpPr/>
            <p:nvPr/>
          </p:nvSpPr>
          <p:spPr>
            <a:xfrm>
              <a:off x="5841000" y="1791720"/>
              <a:ext cx="72720" cy="577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400" h="3033">
                  <a:moveTo>
                    <a:pt x="233" y="33"/>
                  </a:moveTo>
                  <a:lnTo>
                    <a:pt x="233" y="2700"/>
                  </a:lnTo>
                  <a:cubicBezTo>
                    <a:pt x="233" y="2719"/>
                    <a:pt x="219" y="2733"/>
                    <a:pt x="200" y="2733"/>
                  </a:cubicBezTo>
                  <a:cubicBezTo>
                    <a:pt x="182" y="2733"/>
                    <a:pt x="167" y="2719"/>
                    <a:pt x="167" y="27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3" y="15"/>
                    <a:pt x="233" y="33"/>
                  </a:cubicBezTo>
                  <a:close/>
                  <a:moveTo>
                    <a:pt x="400" y="2633"/>
                  </a:moveTo>
                  <a:lnTo>
                    <a:pt x="200" y="3033"/>
                  </a:lnTo>
                  <a:lnTo>
                    <a:pt x="0" y="2633"/>
                  </a:lnTo>
                  <a:lnTo>
                    <a:pt x="400" y="263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5"/>
            <p:cNvSpPr/>
            <p:nvPr/>
          </p:nvSpPr>
          <p:spPr>
            <a:xfrm>
              <a:off x="5227920" y="2821320"/>
              <a:ext cx="334080" cy="350640"/>
            </a:xfrm>
            <a:custGeom>
              <a:avLst/>
              <a:gdLst>
                <a:gd name="textAreaLeft" fmla="*/ 0 w 334080"/>
                <a:gd name="textAreaRight" fmla="*/ 334080 w 3340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673" h="3673">
                  <a:moveTo>
                    <a:pt x="3647" y="120"/>
                  </a:moveTo>
                  <a:lnTo>
                    <a:pt x="518" y="3249"/>
                  </a:lnTo>
                  <a:cubicBezTo>
                    <a:pt x="492" y="3275"/>
                    <a:pt x="450" y="3275"/>
                    <a:pt x="424" y="3249"/>
                  </a:cubicBezTo>
                  <a:cubicBezTo>
                    <a:pt x="398" y="3223"/>
                    <a:pt x="398" y="3181"/>
                    <a:pt x="424" y="3155"/>
                  </a:cubicBezTo>
                  <a:lnTo>
                    <a:pt x="3553" y="26"/>
                  </a:lnTo>
                  <a:cubicBezTo>
                    <a:pt x="3579" y="0"/>
                    <a:pt x="3621" y="0"/>
                    <a:pt x="3647" y="26"/>
                  </a:cubicBezTo>
                  <a:cubicBezTo>
                    <a:pt x="3673" y="52"/>
                    <a:pt x="3673" y="94"/>
                    <a:pt x="3647" y="120"/>
                  </a:cubicBezTo>
                  <a:close/>
                  <a:moveTo>
                    <a:pt x="848" y="3390"/>
                  </a:moveTo>
                  <a:lnTo>
                    <a:pt x="0" y="3673"/>
                  </a:lnTo>
                  <a:lnTo>
                    <a:pt x="283" y="2825"/>
                  </a:lnTo>
                  <a:lnTo>
                    <a:pt x="848" y="339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6"/>
            <p:cNvSpPr/>
            <p:nvPr/>
          </p:nvSpPr>
          <p:spPr>
            <a:xfrm>
              <a:off x="6518880" y="2821320"/>
              <a:ext cx="657360" cy="57924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3637" h="3038">
                  <a:moveTo>
                    <a:pt x="58" y="12"/>
                  </a:moveTo>
                  <a:lnTo>
                    <a:pt x="3402" y="2799"/>
                  </a:lnTo>
                  <a:cubicBezTo>
                    <a:pt x="3417" y="2811"/>
                    <a:pt x="3418" y="2832"/>
                    <a:pt x="3407" y="2846"/>
                  </a:cubicBezTo>
                  <a:cubicBezTo>
                    <a:pt x="3395" y="2860"/>
                    <a:pt x="3374" y="2862"/>
                    <a:pt x="3360" y="2850"/>
                  </a:cubicBezTo>
                  <a:lnTo>
                    <a:pt x="16" y="63"/>
                  </a:lnTo>
                  <a:cubicBezTo>
                    <a:pt x="2" y="52"/>
                    <a:pt x="0" y="31"/>
                    <a:pt x="12" y="16"/>
                  </a:cubicBezTo>
                  <a:cubicBezTo>
                    <a:pt x="23" y="2"/>
                    <a:pt x="44" y="0"/>
                    <a:pt x="58" y="12"/>
                  </a:cubicBezTo>
                  <a:close/>
                  <a:moveTo>
                    <a:pt x="3458" y="2628"/>
                  </a:moveTo>
                  <a:lnTo>
                    <a:pt x="3637" y="3038"/>
                  </a:lnTo>
                  <a:lnTo>
                    <a:pt x="3202" y="2935"/>
                  </a:lnTo>
                  <a:lnTo>
                    <a:pt x="3458" y="26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7"/>
            <p:cNvSpPr/>
            <p:nvPr/>
          </p:nvSpPr>
          <p:spPr>
            <a:xfrm>
              <a:off x="3602880" y="3966120"/>
              <a:ext cx="981360" cy="1035720"/>
            </a:xfrm>
            <a:custGeom>
              <a:avLst/>
              <a:gdLst>
                <a:gd name="textAreaLeft" fmla="*/ 0 w 981360"/>
                <a:gd name="textAreaRight" fmla="*/ 981720 w 98136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5437" h="5437">
                  <a:moveTo>
                    <a:pt x="5424" y="60"/>
                  </a:moveTo>
                  <a:lnTo>
                    <a:pt x="259" y="5225"/>
                  </a:lnTo>
                  <a:cubicBezTo>
                    <a:pt x="246" y="5238"/>
                    <a:pt x="225" y="5238"/>
                    <a:pt x="212" y="5225"/>
                  </a:cubicBezTo>
                  <a:cubicBezTo>
                    <a:pt x="199" y="5212"/>
                    <a:pt x="199" y="5191"/>
                    <a:pt x="212" y="5178"/>
                  </a:cubicBezTo>
                  <a:lnTo>
                    <a:pt x="5377" y="13"/>
                  </a:lnTo>
                  <a:cubicBezTo>
                    <a:pt x="5390" y="0"/>
                    <a:pt x="5411" y="0"/>
                    <a:pt x="5424" y="13"/>
                  </a:cubicBezTo>
                  <a:cubicBezTo>
                    <a:pt x="5437" y="26"/>
                    <a:pt x="5437" y="47"/>
                    <a:pt x="5424" y="60"/>
                  </a:cubicBezTo>
                  <a:close/>
                  <a:moveTo>
                    <a:pt x="424" y="5295"/>
                  </a:moveTo>
                  <a:lnTo>
                    <a:pt x="0" y="5437"/>
                  </a:lnTo>
                  <a:lnTo>
                    <a:pt x="142" y="5013"/>
                  </a:lnTo>
                  <a:lnTo>
                    <a:pt x="424" y="529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8"/>
            <p:cNvSpPr/>
            <p:nvPr/>
          </p:nvSpPr>
          <p:spPr>
            <a:xfrm>
              <a:off x="4457880" y="3966120"/>
              <a:ext cx="343440" cy="103572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1901" h="5438">
                  <a:moveTo>
                    <a:pt x="1895" y="48"/>
                  </a:moveTo>
                  <a:lnTo>
                    <a:pt x="200" y="5132"/>
                  </a:lnTo>
                  <a:cubicBezTo>
                    <a:pt x="194" y="5150"/>
                    <a:pt x="175" y="5159"/>
                    <a:pt x="158" y="5153"/>
                  </a:cubicBezTo>
                  <a:cubicBezTo>
                    <a:pt x="141" y="5147"/>
                    <a:pt x="131" y="5129"/>
                    <a:pt x="137" y="5111"/>
                  </a:cubicBezTo>
                  <a:lnTo>
                    <a:pt x="1832" y="27"/>
                  </a:lnTo>
                  <a:cubicBezTo>
                    <a:pt x="1837" y="10"/>
                    <a:pt x="1856" y="0"/>
                    <a:pt x="1874" y="6"/>
                  </a:cubicBezTo>
                  <a:cubicBezTo>
                    <a:pt x="1891" y="12"/>
                    <a:pt x="1901" y="31"/>
                    <a:pt x="1895" y="48"/>
                  </a:cubicBezTo>
                  <a:close/>
                  <a:moveTo>
                    <a:pt x="379" y="5122"/>
                  </a:moveTo>
                  <a:lnTo>
                    <a:pt x="63" y="5438"/>
                  </a:lnTo>
                  <a:lnTo>
                    <a:pt x="0" y="4995"/>
                  </a:lnTo>
                  <a:lnTo>
                    <a:pt x="379" y="512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9"/>
            <p:cNvSpPr/>
            <p:nvPr/>
          </p:nvSpPr>
          <p:spPr>
            <a:xfrm>
              <a:off x="5113080" y="3968280"/>
              <a:ext cx="141840" cy="103536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035360"/>
                <a:gd name="textAreaBottom" fmla="*/ 1035720 h 1035360"/>
              </a:gdLst>
              <a:ahLst/>
              <a:rect l="textAreaLeft" t="textAreaTop" r="textAreaRight" b="textAreaBottom"/>
              <a:pathLst>
                <a:path w="790" h="5435">
                  <a:moveTo>
                    <a:pt x="68" y="31"/>
                  </a:moveTo>
                  <a:lnTo>
                    <a:pt x="631" y="5100"/>
                  </a:lnTo>
                  <a:cubicBezTo>
                    <a:pt x="633" y="5118"/>
                    <a:pt x="620" y="5135"/>
                    <a:pt x="602" y="5137"/>
                  </a:cubicBezTo>
                  <a:cubicBezTo>
                    <a:pt x="584" y="5139"/>
                    <a:pt x="567" y="5125"/>
                    <a:pt x="565" y="5107"/>
                  </a:cubicBezTo>
                  <a:lnTo>
                    <a:pt x="2" y="38"/>
                  </a:lnTo>
                  <a:cubicBezTo>
                    <a:pt x="0" y="20"/>
                    <a:pt x="13" y="4"/>
                    <a:pt x="31" y="2"/>
                  </a:cubicBezTo>
                  <a:cubicBezTo>
                    <a:pt x="50" y="0"/>
                    <a:pt x="66" y="13"/>
                    <a:pt x="68" y="31"/>
                  </a:cubicBezTo>
                  <a:close/>
                  <a:moveTo>
                    <a:pt x="790" y="5015"/>
                  </a:moveTo>
                  <a:lnTo>
                    <a:pt x="635" y="5435"/>
                  </a:lnTo>
                  <a:lnTo>
                    <a:pt x="392" y="5059"/>
                  </a:lnTo>
                  <a:lnTo>
                    <a:pt x="790" y="501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80"/>
            <p:cNvSpPr/>
            <p:nvPr/>
          </p:nvSpPr>
          <p:spPr>
            <a:xfrm>
              <a:off x="6851520" y="3966120"/>
              <a:ext cx="657000" cy="103572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3638" h="5438">
                  <a:moveTo>
                    <a:pt x="3628" y="56"/>
                  </a:moveTo>
                  <a:lnTo>
                    <a:pt x="213" y="5179"/>
                  </a:lnTo>
                  <a:cubicBezTo>
                    <a:pt x="203" y="5194"/>
                    <a:pt x="182" y="5198"/>
                    <a:pt x="167" y="5188"/>
                  </a:cubicBezTo>
                  <a:cubicBezTo>
                    <a:pt x="151" y="5178"/>
                    <a:pt x="147" y="5157"/>
                    <a:pt x="157" y="5142"/>
                  </a:cubicBezTo>
                  <a:lnTo>
                    <a:pt x="3572" y="19"/>
                  </a:lnTo>
                  <a:cubicBezTo>
                    <a:pt x="3583" y="4"/>
                    <a:pt x="3603" y="0"/>
                    <a:pt x="3619" y="10"/>
                  </a:cubicBezTo>
                  <a:cubicBezTo>
                    <a:pt x="3634" y="20"/>
                    <a:pt x="3638" y="41"/>
                    <a:pt x="3628" y="56"/>
                  </a:cubicBezTo>
                  <a:close/>
                  <a:moveTo>
                    <a:pt x="388" y="5216"/>
                  </a:moveTo>
                  <a:lnTo>
                    <a:pt x="0" y="5438"/>
                  </a:lnTo>
                  <a:lnTo>
                    <a:pt x="56" y="4994"/>
                  </a:lnTo>
                  <a:lnTo>
                    <a:pt x="388" y="52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81"/>
            <p:cNvSpPr/>
            <p:nvPr/>
          </p:nvSpPr>
          <p:spPr>
            <a:xfrm>
              <a:off x="7788960" y="3968280"/>
              <a:ext cx="73080" cy="10353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35360"/>
                <a:gd name="textAreaBottom" fmla="*/ 1035720 h 1035360"/>
              </a:gdLst>
              <a:ahLst/>
              <a:rect l="textAreaLeft" t="textAreaTop" r="textAreaRight" b="textAreaBottom"/>
              <a:pathLst>
                <a:path w="400" h="5434">
                  <a:moveTo>
                    <a:pt x="233" y="34"/>
                  </a:moveTo>
                  <a:lnTo>
                    <a:pt x="233" y="5100"/>
                  </a:lnTo>
                  <a:cubicBezTo>
                    <a:pt x="233" y="5119"/>
                    <a:pt x="219" y="5134"/>
                    <a:pt x="200" y="5134"/>
                  </a:cubicBezTo>
                  <a:cubicBezTo>
                    <a:pt x="182" y="5134"/>
                    <a:pt x="167" y="5119"/>
                    <a:pt x="167" y="5100"/>
                  </a:cubicBezTo>
                  <a:lnTo>
                    <a:pt x="167" y="34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3" y="15"/>
                    <a:pt x="233" y="34"/>
                  </a:cubicBezTo>
                  <a:close/>
                  <a:moveTo>
                    <a:pt x="400" y="5034"/>
                  </a:moveTo>
                  <a:lnTo>
                    <a:pt x="200" y="5434"/>
                  </a:lnTo>
                  <a:lnTo>
                    <a:pt x="0" y="5034"/>
                  </a:lnTo>
                  <a:lnTo>
                    <a:pt x="400" y="503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82"/>
            <p:cNvSpPr/>
            <p:nvPr/>
          </p:nvSpPr>
          <p:spPr>
            <a:xfrm>
              <a:off x="8144640" y="3966120"/>
              <a:ext cx="443880" cy="103572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2458" h="5438">
                  <a:moveTo>
                    <a:pt x="69" y="24"/>
                  </a:moveTo>
                  <a:lnTo>
                    <a:pt x="2333" y="5120"/>
                  </a:lnTo>
                  <a:cubicBezTo>
                    <a:pt x="2341" y="5136"/>
                    <a:pt x="2333" y="5156"/>
                    <a:pt x="2316" y="5164"/>
                  </a:cubicBezTo>
                  <a:cubicBezTo>
                    <a:pt x="2299" y="5171"/>
                    <a:pt x="2280" y="5164"/>
                    <a:pt x="2272" y="5147"/>
                  </a:cubicBezTo>
                  <a:lnTo>
                    <a:pt x="8" y="51"/>
                  </a:lnTo>
                  <a:cubicBezTo>
                    <a:pt x="0" y="35"/>
                    <a:pt x="8" y="15"/>
                    <a:pt x="25" y="7"/>
                  </a:cubicBezTo>
                  <a:cubicBezTo>
                    <a:pt x="41" y="0"/>
                    <a:pt x="61" y="7"/>
                    <a:pt x="69" y="24"/>
                  </a:cubicBezTo>
                  <a:close/>
                  <a:moveTo>
                    <a:pt x="2458" y="4991"/>
                  </a:moveTo>
                  <a:lnTo>
                    <a:pt x="2438" y="5438"/>
                  </a:lnTo>
                  <a:lnTo>
                    <a:pt x="2093" y="5154"/>
                  </a:lnTo>
                  <a:lnTo>
                    <a:pt x="2458" y="499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85"/>
            <p:cNvGrpSpPr/>
            <p:nvPr/>
          </p:nvGrpSpPr>
          <p:grpSpPr>
            <a:xfrm>
              <a:off x="5227920" y="1452960"/>
              <a:ext cx="1515240" cy="457560"/>
              <a:chOff x="5227920" y="1452960"/>
              <a:chExt cx="1515240" cy="457560"/>
            </a:xfrm>
          </p:grpSpPr>
          <p:sp>
            <p:nvSpPr>
              <p:cNvPr id="74" name="Oval 83"/>
              <p:cNvSpPr/>
              <p:nvPr/>
            </p:nvSpPr>
            <p:spPr>
              <a:xfrm>
                <a:off x="5227920" y="1452960"/>
                <a:ext cx="1515240" cy="457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84"/>
              <p:cNvSpPr/>
              <p:nvPr/>
            </p:nvSpPr>
            <p:spPr>
              <a:xfrm>
                <a:off x="5227920" y="1452960"/>
                <a:ext cx="1515240" cy="45756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88"/>
            <p:cNvGrpSpPr/>
            <p:nvPr/>
          </p:nvGrpSpPr>
          <p:grpSpPr>
            <a:xfrm>
              <a:off x="5118840" y="2371320"/>
              <a:ext cx="1624680" cy="570600"/>
              <a:chOff x="5118840" y="2371320"/>
              <a:chExt cx="1624680" cy="570600"/>
            </a:xfrm>
          </p:grpSpPr>
          <p:sp>
            <p:nvSpPr>
              <p:cNvPr id="77" name="Oval 86"/>
              <p:cNvSpPr/>
              <p:nvPr/>
            </p:nvSpPr>
            <p:spPr>
              <a:xfrm>
                <a:off x="5118840" y="2371320"/>
                <a:ext cx="1624680" cy="57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87"/>
              <p:cNvSpPr/>
              <p:nvPr/>
            </p:nvSpPr>
            <p:spPr>
              <a:xfrm>
                <a:off x="5118840" y="2371320"/>
                <a:ext cx="1624680" cy="5706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91"/>
            <p:cNvGrpSpPr/>
            <p:nvPr/>
          </p:nvGrpSpPr>
          <p:grpSpPr>
            <a:xfrm>
              <a:off x="4144320" y="3171960"/>
              <a:ext cx="1622880" cy="915480"/>
              <a:chOff x="4144320" y="3171960"/>
              <a:chExt cx="1622880" cy="915480"/>
            </a:xfrm>
          </p:grpSpPr>
          <p:sp>
            <p:nvSpPr>
              <p:cNvPr id="80" name="Oval 89"/>
              <p:cNvSpPr/>
              <p:nvPr/>
            </p:nvSpPr>
            <p:spPr>
              <a:xfrm>
                <a:off x="4144320" y="3171960"/>
                <a:ext cx="1622880" cy="915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90"/>
              <p:cNvSpPr/>
              <p:nvPr/>
            </p:nvSpPr>
            <p:spPr>
              <a:xfrm>
                <a:off x="4144320" y="3171960"/>
                <a:ext cx="1622880" cy="91548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94"/>
            <p:cNvGrpSpPr/>
            <p:nvPr/>
          </p:nvGrpSpPr>
          <p:grpSpPr>
            <a:xfrm>
              <a:off x="7068960" y="3171960"/>
              <a:ext cx="1622880" cy="915480"/>
              <a:chOff x="7068960" y="3171960"/>
              <a:chExt cx="1622880" cy="915480"/>
            </a:xfrm>
          </p:grpSpPr>
          <p:sp>
            <p:nvSpPr>
              <p:cNvPr id="83" name="Oval 92"/>
              <p:cNvSpPr/>
              <p:nvPr/>
            </p:nvSpPr>
            <p:spPr>
              <a:xfrm>
                <a:off x="7068960" y="3171960"/>
                <a:ext cx="1622880" cy="915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93"/>
              <p:cNvSpPr/>
              <p:nvPr/>
            </p:nvSpPr>
            <p:spPr>
              <a:xfrm>
                <a:off x="7068960" y="3171960"/>
                <a:ext cx="1622880" cy="91548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ectangle 95"/>
            <p:cNvSpPr/>
            <p:nvPr/>
          </p:nvSpPr>
          <p:spPr>
            <a:xfrm>
              <a:off x="5504040" y="1621080"/>
              <a:ext cx="969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96"/>
            <p:cNvSpPr/>
            <p:nvPr/>
          </p:nvSpPr>
          <p:spPr>
            <a:xfrm>
              <a:off x="6395760" y="162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97"/>
            <p:cNvSpPr/>
            <p:nvPr/>
          </p:nvSpPr>
          <p:spPr>
            <a:xfrm>
              <a:off x="5307480" y="2537640"/>
              <a:ext cx="101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8"/>
            <p:cNvSpPr/>
            <p:nvPr/>
          </p:nvSpPr>
          <p:spPr>
            <a:xfrm>
              <a:off x="6234120" y="25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9"/>
            <p:cNvSpPr/>
            <p:nvPr/>
          </p:nvSpPr>
          <p:spPr>
            <a:xfrm>
              <a:off x="4455000" y="333396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gglom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0"/>
            <p:cNvSpPr/>
            <p:nvPr/>
          </p:nvSpPr>
          <p:spPr>
            <a:xfrm>
              <a:off x="5156640" y="3333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1"/>
            <p:cNvSpPr/>
            <p:nvPr/>
          </p:nvSpPr>
          <p:spPr>
            <a:xfrm>
              <a:off x="4955400" y="3510000"/>
              <a:ext cx="36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02"/>
            <p:cNvSpPr/>
            <p:nvPr/>
          </p:nvSpPr>
          <p:spPr>
            <a:xfrm>
              <a:off x="5352840" y="3510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3"/>
            <p:cNvSpPr/>
            <p:nvPr/>
          </p:nvSpPr>
          <p:spPr>
            <a:xfrm>
              <a:off x="4123440" y="3690720"/>
              <a:ext cx="16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tforms: SI innov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4"/>
            <p:cNvSpPr/>
            <p:nvPr/>
          </p:nvSpPr>
          <p:spPr>
            <a:xfrm>
              <a:off x="5548680" y="3690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5"/>
            <p:cNvSpPr/>
            <p:nvPr/>
          </p:nvSpPr>
          <p:spPr>
            <a:xfrm>
              <a:off x="7637040" y="33339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6"/>
            <p:cNvSpPr/>
            <p:nvPr/>
          </p:nvSpPr>
          <p:spPr>
            <a:xfrm>
              <a:off x="8077320" y="3333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7"/>
            <p:cNvSpPr/>
            <p:nvPr/>
          </p:nvSpPr>
          <p:spPr>
            <a:xfrm>
              <a:off x="7371360" y="3510000"/>
              <a:ext cx="102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 interv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8"/>
            <p:cNvSpPr/>
            <p:nvPr/>
          </p:nvSpPr>
          <p:spPr>
            <a:xfrm>
              <a:off x="8317440" y="3510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9"/>
            <p:cNvSpPr/>
            <p:nvPr/>
          </p:nvSpPr>
          <p:spPr>
            <a:xfrm>
              <a:off x="7338600" y="3690720"/>
              <a:ext cx="109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unterfactual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0"/>
            <p:cNvSpPr/>
            <p:nvPr/>
          </p:nvSpPr>
          <p:spPr>
            <a:xfrm>
              <a:off x="8353800" y="3690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13"/>
            <p:cNvGrpSpPr/>
            <p:nvPr/>
          </p:nvGrpSpPr>
          <p:grpSpPr>
            <a:xfrm>
              <a:off x="3170160" y="5004000"/>
              <a:ext cx="649080" cy="344160"/>
              <a:chOff x="3170160" y="5004000"/>
              <a:chExt cx="649080" cy="344160"/>
            </a:xfrm>
          </p:grpSpPr>
          <p:sp>
            <p:nvSpPr>
              <p:cNvPr id="102" name="Rectangle 111"/>
              <p:cNvSpPr/>
              <p:nvPr/>
            </p:nvSpPr>
            <p:spPr>
              <a:xfrm>
                <a:off x="3170160" y="5004000"/>
                <a:ext cx="64908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12"/>
              <p:cNvSpPr/>
              <p:nvPr/>
            </p:nvSpPr>
            <p:spPr>
              <a:xfrm>
                <a:off x="3170160" y="5004000"/>
                <a:ext cx="64908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Rectangle 114"/>
            <p:cNvSpPr/>
            <p:nvPr/>
          </p:nvSpPr>
          <p:spPr>
            <a:xfrm>
              <a:off x="3213360" y="506268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bs. un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5"/>
            <p:cNvSpPr/>
            <p:nvPr/>
          </p:nvSpPr>
          <p:spPr>
            <a:xfrm>
              <a:off x="372096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118"/>
            <p:cNvGrpSpPr/>
            <p:nvPr/>
          </p:nvGrpSpPr>
          <p:grpSpPr>
            <a:xfrm>
              <a:off x="4090680" y="5004000"/>
              <a:ext cx="648720" cy="344160"/>
              <a:chOff x="4090680" y="5004000"/>
              <a:chExt cx="648720" cy="344160"/>
            </a:xfrm>
          </p:grpSpPr>
          <p:sp>
            <p:nvSpPr>
              <p:cNvPr id="107" name="Rectangle 116"/>
              <p:cNvSpPr/>
              <p:nvPr/>
            </p:nvSpPr>
            <p:spPr>
              <a:xfrm>
                <a:off x="409068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17"/>
              <p:cNvSpPr/>
              <p:nvPr/>
            </p:nvSpPr>
            <p:spPr>
              <a:xfrm>
                <a:off x="409068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Rectangle 119"/>
            <p:cNvSpPr/>
            <p:nvPr/>
          </p:nvSpPr>
          <p:spPr>
            <a:xfrm>
              <a:off x="42076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0"/>
            <p:cNvSpPr/>
            <p:nvPr/>
          </p:nvSpPr>
          <p:spPr>
            <a:xfrm>
              <a:off x="464004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23"/>
            <p:cNvGrpSpPr/>
            <p:nvPr/>
          </p:nvGrpSpPr>
          <p:grpSpPr>
            <a:xfrm>
              <a:off x="4903560" y="5004000"/>
              <a:ext cx="648720" cy="344160"/>
              <a:chOff x="4903560" y="5004000"/>
              <a:chExt cx="648720" cy="344160"/>
            </a:xfrm>
          </p:grpSpPr>
          <p:sp>
            <p:nvSpPr>
              <p:cNvPr id="112" name="Rectangle 121"/>
              <p:cNvSpPr/>
              <p:nvPr/>
            </p:nvSpPr>
            <p:spPr>
              <a:xfrm>
                <a:off x="490356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22"/>
              <p:cNvSpPr/>
              <p:nvPr/>
            </p:nvSpPr>
            <p:spPr>
              <a:xfrm>
                <a:off x="490356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24"/>
            <p:cNvSpPr/>
            <p:nvPr/>
          </p:nvSpPr>
          <p:spPr>
            <a:xfrm>
              <a:off x="502416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5"/>
            <p:cNvSpPr/>
            <p:nvPr/>
          </p:nvSpPr>
          <p:spPr>
            <a:xfrm>
              <a:off x="545328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128"/>
            <p:cNvGrpSpPr/>
            <p:nvPr/>
          </p:nvGrpSpPr>
          <p:grpSpPr>
            <a:xfrm>
              <a:off x="6580800" y="5004000"/>
              <a:ext cx="648720" cy="344160"/>
              <a:chOff x="6580800" y="5004000"/>
              <a:chExt cx="648720" cy="344160"/>
            </a:xfrm>
          </p:grpSpPr>
          <p:sp>
            <p:nvSpPr>
              <p:cNvPr id="117" name="Rectangle 126"/>
              <p:cNvSpPr/>
              <p:nvPr/>
            </p:nvSpPr>
            <p:spPr>
              <a:xfrm>
                <a:off x="658080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27"/>
              <p:cNvSpPr/>
              <p:nvPr/>
            </p:nvSpPr>
            <p:spPr>
              <a:xfrm>
                <a:off x="658080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129"/>
            <p:cNvSpPr/>
            <p:nvPr/>
          </p:nvSpPr>
          <p:spPr>
            <a:xfrm>
              <a:off x="66988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0"/>
            <p:cNvSpPr/>
            <p:nvPr/>
          </p:nvSpPr>
          <p:spPr>
            <a:xfrm>
              <a:off x="713016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33"/>
            <p:cNvGrpSpPr/>
            <p:nvPr/>
          </p:nvGrpSpPr>
          <p:grpSpPr>
            <a:xfrm>
              <a:off x="7393680" y="5004000"/>
              <a:ext cx="648720" cy="344160"/>
              <a:chOff x="7393680" y="5004000"/>
              <a:chExt cx="648720" cy="344160"/>
            </a:xfrm>
          </p:grpSpPr>
          <p:sp>
            <p:nvSpPr>
              <p:cNvPr id="122" name="Rectangle 131"/>
              <p:cNvSpPr/>
              <p:nvPr/>
            </p:nvSpPr>
            <p:spPr>
              <a:xfrm>
                <a:off x="739368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2"/>
              <p:cNvSpPr/>
              <p:nvPr/>
            </p:nvSpPr>
            <p:spPr>
              <a:xfrm>
                <a:off x="739368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Rectangle 134"/>
            <p:cNvSpPr/>
            <p:nvPr/>
          </p:nvSpPr>
          <p:spPr>
            <a:xfrm>
              <a:off x="75142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35"/>
            <p:cNvSpPr/>
            <p:nvPr/>
          </p:nvSpPr>
          <p:spPr>
            <a:xfrm>
              <a:off x="794340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138"/>
            <p:cNvGrpSpPr/>
            <p:nvPr/>
          </p:nvGrpSpPr>
          <p:grpSpPr>
            <a:xfrm>
              <a:off x="8206200" y="5004000"/>
              <a:ext cx="649080" cy="344160"/>
              <a:chOff x="8206200" y="5004000"/>
              <a:chExt cx="649080" cy="344160"/>
            </a:xfrm>
          </p:grpSpPr>
          <p:sp>
            <p:nvSpPr>
              <p:cNvPr id="127" name="Rectangle 136"/>
              <p:cNvSpPr/>
              <p:nvPr/>
            </p:nvSpPr>
            <p:spPr>
              <a:xfrm>
                <a:off x="8206200" y="5004000"/>
                <a:ext cx="64908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37"/>
              <p:cNvSpPr/>
              <p:nvPr/>
            </p:nvSpPr>
            <p:spPr>
              <a:xfrm>
                <a:off x="8206200" y="5004000"/>
                <a:ext cx="64908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Rectangle 139"/>
            <p:cNvSpPr/>
            <p:nvPr/>
          </p:nvSpPr>
          <p:spPr>
            <a:xfrm>
              <a:off x="83242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0"/>
            <p:cNvSpPr/>
            <p:nvPr/>
          </p:nvSpPr>
          <p:spPr>
            <a:xfrm>
              <a:off x="875340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41"/>
            <p:cNvSpPr/>
            <p:nvPr/>
          </p:nvSpPr>
          <p:spPr>
            <a:xfrm>
              <a:off x="3373200" y="5401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F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42"/>
            <p:cNvSpPr/>
            <p:nvPr/>
          </p:nvSpPr>
          <p:spPr>
            <a:xfrm>
              <a:off x="3613680" y="540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43"/>
            <p:cNvSpPr/>
            <p:nvPr/>
          </p:nvSpPr>
          <p:spPr>
            <a:xfrm>
              <a:off x="4239360" y="5401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F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44"/>
            <p:cNvSpPr/>
            <p:nvPr/>
          </p:nvSpPr>
          <p:spPr>
            <a:xfrm>
              <a:off x="4480560" y="540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45"/>
            <p:cNvSpPr/>
            <p:nvPr/>
          </p:nvSpPr>
          <p:spPr>
            <a:xfrm>
              <a:off x="4997520" y="539748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46"/>
            <p:cNvSpPr/>
            <p:nvPr/>
          </p:nvSpPr>
          <p:spPr>
            <a:xfrm>
              <a:off x="4955760" y="556308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nterv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47"/>
            <p:cNvSpPr/>
            <p:nvPr/>
          </p:nvSpPr>
          <p:spPr>
            <a:xfrm>
              <a:off x="5658120" y="5563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8"/>
            <p:cNvSpPr/>
            <p:nvPr/>
          </p:nvSpPr>
          <p:spPr>
            <a:xfrm>
              <a:off x="2953080" y="4546080"/>
              <a:ext cx="3031920" cy="171648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9"/>
            <p:cNvSpPr/>
            <p:nvPr/>
          </p:nvSpPr>
          <p:spPr>
            <a:xfrm>
              <a:off x="6319440" y="4546080"/>
              <a:ext cx="2806560" cy="12600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150"/>
          <p:cNvSpPr/>
          <p:nvPr/>
        </p:nvSpPr>
        <p:spPr>
          <a:xfrm>
            <a:off x="392040" y="1852560"/>
            <a:ext cx="205740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ited/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1"/>
          <p:cNvSpPr/>
          <p:nvPr/>
        </p:nvSpPr>
        <p:spPr>
          <a:xfrm>
            <a:off x="0" y="1306440"/>
            <a:ext cx="3059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gree of intervention/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2"/>
          <p:cNvSpPr/>
          <p:nvPr/>
        </p:nvSpPr>
        <p:spPr>
          <a:xfrm>
            <a:off x="425520" y="2538360"/>
            <a:ext cx="2057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imited/observation (RQ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3"/>
          <p:cNvSpPr/>
          <p:nvPr/>
        </p:nvSpPr>
        <p:spPr>
          <a:xfrm>
            <a:off x="396720" y="3384720"/>
            <a:ext cx="182880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Some/exploration (RQ2 and 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4"/>
          <p:cNvSpPr/>
          <p:nvPr/>
        </p:nvSpPr>
        <p:spPr>
          <a:xfrm>
            <a:off x="353880" y="4929120"/>
            <a:ext cx="209088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High/e.g., Fisher or classical experimentation: Mother-Baby; RCTS (RQ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9"/>
          <p:cNvSpPr/>
          <p:nvPr/>
        </p:nvSpPr>
        <p:spPr>
          <a:xfrm>
            <a:off x="1320840" y="770040"/>
            <a:ext cx="38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e variable dependent on the trials hypoth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5"/>
          <p:cNvSpPr/>
          <p:nvPr/>
        </p:nvSpPr>
        <p:spPr>
          <a:xfrm>
            <a:off x="7414200" y="5389560"/>
            <a:ext cx="2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6"/>
          <p:cNvSpPr/>
          <p:nvPr/>
        </p:nvSpPr>
        <p:spPr>
          <a:xfrm>
            <a:off x="7373520" y="555624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9"/>
          <p:cNvSpPr/>
          <p:nvPr/>
        </p:nvSpPr>
        <p:spPr>
          <a:xfrm>
            <a:off x="1752480" y="838080"/>
            <a:ext cx="38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se variable dependent on the trials hypoth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523880" y="152280"/>
            <a:ext cx="7153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Random phase-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91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85"/>
          <p:cNvGrpSpPr/>
          <p:nvPr/>
        </p:nvGrpSpPr>
        <p:grpSpPr>
          <a:xfrm>
            <a:off x="3200400" y="457200"/>
            <a:ext cx="5791320" cy="6573240"/>
            <a:chOff x="3200400" y="457200"/>
            <a:chExt cx="5791320" cy="6573240"/>
          </a:xfrm>
        </p:grpSpPr>
        <p:grpSp>
          <p:nvGrpSpPr>
            <p:cNvPr id="152" name="Up Arrow 88"/>
            <p:cNvGrpSpPr/>
            <p:nvPr/>
          </p:nvGrpSpPr>
          <p:grpSpPr>
            <a:xfrm>
              <a:off x="6188760" y="4620600"/>
              <a:ext cx="262800" cy="339120"/>
              <a:chOff x="6188760" y="4620600"/>
              <a:chExt cx="262800" cy="339120"/>
            </a:xfrm>
          </p:grpSpPr>
          <p:pic>
            <p:nvPicPr>
              <p:cNvPr id="153" name="Up Arrow 8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88760" y="4620600"/>
                <a:ext cx="262800" cy="33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6285600" y="4697640"/>
                <a:ext cx="74520" cy="1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Oval 5"/>
            <p:cNvGrpSpPr/>
            <p:nvPr/>
          </p:nvGrpSpPr>
          <p:grpSpPr>
            <a:xfrm>
              <a:off x="3200400" y="457200"/>
              <a:ext cx="2581920" cy="866520"/>
              <a:chOff x="3200400" y="457200"/>
              <a:chExt cx="2581920" cy="866520"/>
            </a:xfrm>
          </p:grpSpPr>
          <p:pic>
            <p:nvPicPr>
              <p:cNvPr id="156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400" y="457200"/>
                <a:ext cx="258192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3621240" y="604440"/>
                <a:ext cx="17434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Consum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8" name="TextBox 22" descr=""/>
            <p:cNvPicPr/>
            <p:nvPr/>
          </p:nvPicPr>
          <p:blipFill>
            <a:blip r:embed="rId3"/>
            <a:stretch/>
          </p:blipFill>
          <p:spPr>
            <a:xfrm>
              <a:off x="3648600" y="4354200"/>
              <a:ext cx="53431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TextBox 23" descr=""/>
            <p:cNvPicPr/>
            <p:nvPr/>
          </p:nvPicPr>
          <p:blipFill>
            <a:blip r:embed="rId4"/>
            <a:stretch/>
          </p:blipFill>
          <p:spPr>
            <a:xfrm>
              <a:off x="3200400" y="4851000"/>
              <a:ext cx="5641920" cy="1302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Up Arrow 86"/>
            <p:cNvGrpSpPr/>
            <p:nvPr/>
          </p:nvGrpSpPr>
          <p:grpSpPr>
            <a:xfrm>
              <a:off x="3200400" y="2044800"/>
              <a:ext cx="412200" cy="1775520"/>
              <a:chOff x="3200400" y="2044800"/>
              <a:chExt cx="412200" cy="1775520"/>
            </a:xfrm>
          </p:grpSpPr>
          <p:pic>
            <p:nvPicPr>
              <p:cNvPr id="161" name="Up Arrow 86" descr=""/>
              <p:cNvPicPr/>
              <p:nvPr/>
            </p:nvPicPr>
            <p:blipFill>
              <a:blip r:embed="rId5"/>
              <a:stretch/>
            </p:blipFill>
            <p:spPr>
              <a:xfrm>
                <a:off x="3200400" y="2044800"/>
                <a:ext cx="412200" cy="177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3334680" y="2159640"/>
                <a:ext cx="149400" cy="159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Up Arrow 87"/>
            <p:cNvGrpSpPr/>
            <p:nvPr/>
          </p:nvGrpSpPr>
          <p:grpSpPr>
            <a:xfrm>
              <a:off x="4323960" y="4093560"/>
              <a:ext cx="412200" cy="333000"/>
              <a:chOff x="4323960" y="4093560"/>
              <a:chExt cx="412200" cy="333000"/>
            </a:xfrm>
          </p:grpSpPr>
          <p:pic>
            <p:nvPicPr>
              <p:cNvPr id="164" name="Up Arrow 87" descr=""/>
              <p:cNvPicPr/>
              <p:nvPr/>
            </p:nvPicPr>
            <p:blipFill>
              <a:blip r:embed="rId6"/>
              <a:stretch/>
            </p:blipFill>
            <p:spPr>
              <a:xfrm>
                <a:off x="4323960" y="4093560"/>
                <a:ext cx="41220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4455360" y="4186440"/>
                <a:ext cx="149400" cy="17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Box 99"/>
            <p:cNvSpPr/>
            <p:nvPr/>
          </p:nvSpPr>
          <p:spPr>
            <a:xfrm>
              <a:off x="3260160" y="6099480"/>
              <a:ext cx="89640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Fresh grains  un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TextBox 38" descr=""/>
            <p:cNvPicPr/>
            <p:nvPr/>
          </p:nvPicPr>
          <p:blipFill>
            <a:blip r:embed="rId7"/>
            <a:stretch/>
          </p:blipFill>
          <p:spPr>
            <a:xfrm>
              <a:off x="3200400" y="1626840"/>
              <a:ext cx="27313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TextBox 29" descr=""/>
            <p:cNvPicPr/>
            <p:nvPr/>
          </p:nvPicPr>
          <p:blipFill>
            <a:blip r:embed="rId8"/>
            <a:stretch/>
          </p:blipFill>
          <p:spPr>
            <a:xfrm>
              <a:off x="3277800" y="3669120"/>
              <a:ext cx="250416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" name="Up Arrow 32"/>
            <p:cNvGrpSpPr/>
            <p:nvPr/>
          </p:nvGrpSpPr>
          <p:grpSpPr>
            <a:xfrm>
              <a:off x="3277800" y="1135800"/>
              <a:ext cx="412200" cy="563400"/>
              <a:chOff x="3277800" y="1135800"/>
              <a:chExt cx="412200" cy="563400"/>
            </a:xfrm>
          </p:grpSpPr>
          <p:pic>
            <p:nvPicPr>
              <p:cNvPr id="170" name="Up Arrow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3277800" y="1135800"/>
                <a:ext cx="41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3409200" y="1250640"/>
                <a:ext cx="14940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61"/>
          <p:cNvGrpSpPr/>
          <p:nvPr/>
        </p:nvGrpSpPr>
        <p:grpSpPr>
          <a:xfrm>
            <a:off x="3505320" y="1295280"/>
            <a:ext cx="2133360" cy="5410080"/>
            <a:chOff x="3505320" y="1295280"/>
            <a:chExt cx="2133360" cy="5410080"/>
          </a:xfrm>
        </p:grpSpPr>
        <p:sp>
          <p:nvSpPr>
            <p:cNvPr id="173" name="TextBox 100"/>
            <p:cNvSpPr/>
            <p:nvPr/>
          </p:nvSpPr>
          <p:spPr>
            <a:xfrm>
              <a:off x="4546800" y="6109200"/>
              <a:ext cx="914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 un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Up Arrow 36"/>
            <p:cNvGrpSpPr/>
            <p:nvPr/>
          </p:nvGrpSpPr>
          <p:grpSpPr>
            <a:xfrm>
              <a:off x="4141440" y="2730960"/>
              <a:ext cx="388440" cy="411840"/>
              <a:chOff x="4141440" y="2730960"/>
              <a:chExt cx="388440" cy="411840"/>
            </a:xfrm>
          </p:grpSpPr>
          <p:pic>
            <p:nvPicPr>
              <p:cNvPr id="175" name="Up Arrow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4141440" y="2730960"/>
                <a:ext cx="388440" cy="41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4265280" y="2842920"/>
                <a:ext cx="140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TextBox 19" descr=""/>
            <p:cNvPicPr/>
            <p:nvPr/>
          </p:nvPicPr>
          <p:blipFill>
            <a:blip r:embed="rId11"/>
            <a:stretch/>
          </p:blipFill>
          <p:spPr>
            <a:xfrm>
              <a:off x="3595320" y="3064320"/>
              <a:ext cx="204336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TextBox 30" descr=""/>
            <p:cNvPicPr/>
            <p:nvPr/>
          </p:nvPicPr>
          <p:blipFill>
            <a:blip r:embed="rId12"/>
            <a:stretch/>
          </p:blipFill>
          <p:spPr>
            <a:xfrm>
              <a:off x="3505320" y="2306880"/>
              <a:ext cx="158760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Up Arrow 35"/>
            <p:cNvGrpSpPr/>
            <p:nvPr/>
          </p:nvGrpSpPr>
          <p:grpSpPr>
            <a:xfrm>
              <a:off x="4282200" y="3488400"/>
              <a:ext cx="315000" cy="260280"/>
              <a:chOff x="4282200" y="3488400"/>
              <a:chExt cx="315000" cy="260280"/>
            </a:xfrm>
          </p:grpSpPr>
          <p:pic>
            <p:nvPicPr>
              <p:cNvPr id="180" name="Up Arrow 35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82200" y="3488400"/>
                <a:ext cx="31500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4388400" y="3562560"/>
                <a:ext cx="10548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Up Arrow 37"/>
            <p:cNvGrpSpPr/>
            <p:nvPr/>
          </p:nvGrpSpPr>
          <p:grpSpPr>
            <a:xfrm>
              <a:off x="4282200" y="2046600"/>
              <a:ext cx="315000" cy="339120"/>
              <a:chOff x="4282200" y="2046600"/>
              <a:chExt cx="315000" cy="339120"/>
            </a:xfrm>
          </p:grpSpPr>
          <p:pic>
            <p:nvPicPr>
              <p:cNvPr id="183" name="Up Arrow 37" descr=""/>
              <p:cNvPicPr/>
              <p:nvPr/>
            </p:nvPicPr>
            <p:blipFill>
              <a:blip r:embed="rId14"/>
              <a:stretch/>
            </p:blipFill>
            <p:spPr>
              <a:xfrm>
                <a:off x="4282200" y="2046600"/>
                <a:ext cx="315000" cy="33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4388400" y="2142720"/>
                <a:ext cx="105480" cy="17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Up Arrow 39"/>
            <p:cNvGrpSpPr/>
            <p:nvPr/>
          </p:nvGrpSpPr>
          <p:grpSpPr>
            <a:xfrm>
              <a:off x="4282200" y="1295280"/>
              <a:ext cx="315000" cy="405720"/>
              <a:chOff x="4282200" y="1295280"/>
              <a:chExt cx="315000" cy="405720"/>
            </a:xfrm>
          </p:grpSpPr>
          <p:pic>
            <p:nvPicPr>
              <p:cNvPr id="186" name="Up Arrow 39" descr=""/>
              <p:cNvPicPr/>
              <p:nvPr/>
            </p:nvPicPr>
            <p:blipFill>
              <a:blip r:embed="rId15"/>
              <a:stretch/>
            </p:blipFill>
            <p:spPr>
              <a:xfrm>
                <a:off x="4282200" y="1295280"/>
                <a:ext cx="315000" cy="40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388400" y="1385280"/>
                <a:ext cx="1054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90"/>
          <p:cNvGrpSpPr/>
          <p:nvPr/>
        </p:nvGrpSpPr>
        <p:grpSpPr>
          <a:xfrm>
            <a:off x="5181480" y="457200"/>
            <a:ext cx="1905120" cy="6238440"/>
            <a:chOff x="5181480" y="457200"/>
            <a:chExt cx="1905120" cy="6238440"/>
          </a:xfrm>
        </p:grpSpPr>
        <p:sp>
          <p:nvSpPr>
            <p:cNvPr id="189" name="TextBox 101"/>
            <p:cNvSpPr/>
            <p:nvPr/>
          </p:nvSpPr>
          <p:spPr>
            <a:xfrm>
              <a:off x="6027840" y="6099480"/>
              <a:ext cx="10040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expo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TextBox 18" descr=""/>
            <p:cNvPicPr/>
            <p:nvPr/>
          </p:nvPicPr>
          <p:blipFill>
            <a:blip r:embed="rId16"/>
            <a:stretch/>
          </p:blipFill>
          <p:spPr>
            <a:xfrm>
              <a:off x="5181480" y="2305440"/>
              <a:ext cx="190512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1" name="Oval 28"/>
            <p:cNvGrpSpPr/>
            <p:nvPr/>
          </p:nvGrpSpPr>
          <p:grpSpPr>
            <a:xfrm>
              <a:off x="5829840" y="457200"/>
              <a:ext cx="1038600" cy="866520"/>
              <a:chOff x="5829840" y="457200"/>
              <a:chExt cx="1038600" cy="866520"/>
            </a:xfrm>
          </p:grpSpPr>
          <p:pic>
            <p:nvPicPr>
              <p:cNvPr id="192" name="Oval 28" descr=""/>
              <p:cNvPicPr/>
              <p:nvPr/>
            </p:nvPicPr>
            <p:blipFill>
              <a:blip r:embed="rId17"/>
              <a:stretch/>
            </p:blipFill>
            <p:spPr>
              <a:xfrm>
                <a:off x="5829840" y="457200"/>
                <a:ext cx="103860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6020640" y="604440"/>
                <a:ext cx="65952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Expor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Up Arrow 80"/>
            <p:cNvGrpSpPr/>
            <p:nvPr/>
          </p:nvGrpSpPr>
          <p:grpSpPr>
            <a:xfrm>
              <a:off x="6185520" y="1287360"/>
              <a:ext cx="326880" cy="1096920"/>
              <a:chOff x="6185520" y="1287360"/>
              <a:chExt cx="326880" cy="1096920"/>
            </a:xfrm>
          </p:grpSpPr>
          <p:pic>
            <p:nvPicPr>
              <p:cNvPr id="195" name="Up Arrow 80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85520" y="1287360"/>
                <a:ext cx="326880" cy="109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6296400" y="1383480"/>
                <a:ext cx="107640" cy="92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Up Arrow 82"/>
            <p:cNvGrpSpPr/>
            <p:nvPr/>
          </p:nvGrpSpPr>
          <p:grpSpPr>
            <a:xfrm>
              <a:off x="6116760" y="2729880"/>
              <a:ext cx="321120" cy="787680"/>
              <a:chOff x="6116760" y="2729880"/>
              <a:chExt cx="321120" cy="787680"/>
            </a:xfrm>
          </p:grpSpPr>
          <p:pic>
            <p:nvPicPr>
              <p:cNvPr id="198" name="Up Arrow 82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16760" y="2729880"/>
                <a:ext cx="321120" cy="7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6224760" y="2822760"/>
                <a:ext cx="1072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TextBox 40" descr=""/>
            <p:cNvPicPr/>
            <p:nvPr/>
          </p:nvPicPr>
          <p:blipFill>
            <a:blip r:embed="rId20"/>
            <a:stretch/>
          </p:blipFill>
          <p:spPr>
            <a:xfrm>
              <a:off x="5755320" y="3444840"/>
              <a:ext cx="1113120" cy="79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Up Arrow 41"/>
            <p:cNvGrpSpPr/>
            <p:nvPr/>
          </p:nvGrpSpPr>
          <p:grpSpPr>
            <a:xfrm>
              <a:off x="6042240" y="4166280"/>
              <a:ext cx="326880" cy="260280"/>
              <a:chOff x="6042240" y="4166280"/>
              <a:chExt cx="326880" cy="260280"/>
            </a:xfrm>
          </p:grpSpPr>
          <p:pic>
            <p:nvPicPr>
              <p:cNvPr id="202" name="Up Arrow 41" descr=""/>
              <p:cNvPicPr/>
              <p:nvPr/>
            </p:nvPicPr>
            <p:blipFill>
              <a:blip r:embed="rId21"/>
              <a:stretch/>
            </p:blipFill>
            <p:spPr>
              <a:xfrm>
                <a:off x="6042240" y="4166280"/>
                <a:ext cx="32688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6153120" y="4243320"/>
                <a:ext cx="10764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Group 78"/>
          <p:cNvGrpSpPr/>
          <p:nvPr/>
        </p:nvGrpSpPr>
        <p:grpSpPr>
          <a:xfrm>
            <a:off x="6934320" y="457200"/>
            <a:ext cx="2209680" cy="6238440"/>
            <a:chOff x="6934320" y="457200"/>
            <a:chExt cx="2209680" cy="6238440"/>
          </a:xfrm>
        </p:grpSpPr>
        <p:pic>
          <p:nvPicPr>
            <p:cNvPr id="205" name="TextBox 21" descr=""/>
            <p:cNvPicPr/>
            <p:nvPr/>
          </p:nvPicPr>
          <p:blipFill>
            <a:blip r:embed="rId22"/>
            <a:stretch/>
          </p:blipFill>
          <p:spPr>
            <a:xfrm>
              <a:off x="6934320" y="3596400"/>
              <a:ext cx="184248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" name="Up Arrow 81"/>
            <p:cNvGrpSpPr/>
            <p:nvPr/>
          </p:nvGrpSpPr>
          <p:grpSpPr>
            <a:xfrm>
              <a:off x="7979760" y="2123640"/>
              <a:ext cx="316440" cy="181800"/>
              <a:chOff x="7979760" y="2123640"/>
              <a:chExt cx="316440" cy="181800"/>
            </a:xfrm>
          </p:grpSpPr>
          <p:pic>
            <p:nvPicPr>
              <p:cNvPr id="207" name="Up Arrow 81" descr=""/>
              <p:cNvPicPr/>
              <p:nvPr/>
            </p:nvPicPr>
            <p:blipFill>
              <a:blip r:embed="rId23"/>
              <a:stretch/>
            </p:blipFill>
            <p:spPr>
              <a:xfrm>
                <a:off x="7979760" y="2123640"/>
                <a:ext cx="31644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8117280" y="2167920"/>
                <a:ext cx="4428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Up Arrow 83"/>
            <p:cNvGrpSpPr/>
            <p:nvPr/>
          </p:nvGrpSpPr>
          <p:grpSpPr>
            <a:xfrm>
              <a:off x="7765200" y="2954160"/>
              <a:ext cx="321840" cy="714960"/>
              <a:chOff x="7765200" y="2954160"/>
              <a:chExt cx="321840" cy="714960"/>
            </a:xfrm>
          </p:grpSpPr>
          <p:pic>
            <p:nvPicPr>
              <p:cNvPr id="210" name="Up Arrow 83" descr=""/>
              <p:cNvPicPr/>
              <p:nvPr/>
            </p:nvPicPr>
            <p:blipFill>
              <a:blip r:embed="rId24"/>
              <a:stretch/>
            </p:blipFill>
            <p:spPr>
              <a:xfrm>
                <a:off x="7765200" y="2954160"/>
                <a:ext cx="321840" cy="71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7874640" y="3050280"/>
                <a:ext cx="10584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Box 102"/>
            <p:cNvSpPr/>
            <p:nvPr/>
          </p:nvSpPr>
          <p:spPr>
            <a:xfrm>
              <a:off x="7609680" y="6099480"/>
              <a:ext cx="1271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  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Oval 33"/>
            <p:cNvGrpSpPr/>
            <p:nvPr/>
          </p:nvGrpSpPr>
          <p:grpSpPr>
            <a:xfrm>
              <a:off x="7058520" y="457200"/>
              <a:ext cx="1944360" cy="866520"/>
              <a:chOff x="7058520" y="457200"/>
              <a:chExt cx="1944360" cy="866520"/>
            </a:xfrm>
          </p:grpSpPr>
          <p:pic>
            <p:nvPicPr>
              <p:cNvPr id="214" name="Oval 33" descr=""/>
              <p:cNvPicPr/>
              <p:nvPr/>
            </p:nvPicPr>
            <p:blipFill>
              <a:blip r:embed="rId25"/>
              <a:stretch/>
            </p:blipFill>
            <p:spPr>
              <a:xfrm>
                <a:off x="7058520" y="457200"/>
                <a:ext cx="194436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7383960" y="604440"/>
                <a:ext cx="12988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Consum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6" name="TextBox 34" descr=""/>
            <p:cNvPicPr/>
            <p:nvPr/>
          </p:nvPicPr>
          <p:blipFill>
            <a:blip r:embed="rId26"/>
            <a:stretch/>
          </p:blipFill>
          <p:spPr>
            <a:xfrm>
              <a:off x="7199640" y="2232720"/>
              <a:ext cx="1944360" cy="79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Up Arrow 42"/>
            <p:cNvGrpSpPr/>
            <p:nvPr/>
          </p:nvGrpSpPr>
          <p:grpSpPr>
            <a:xfrm>
              <a:off x="8613000" y="2954160"/>
              <a:ext cx="389880" cy="1472760"/>
              <a:chOff x="8613000" y="2954160"/>
              <a:chExt cx="389880" cy="1472760"/>
            </a:xfrm>
          </p:grpSpPr>
          <p:pic>
            <p:nvPicPr>
              <p:cNvPr id="218" name="Up Arrow 42" descr=""/>
              <p:cNvPicPr/>
              <p:nvPr/>
            </p:nvPicPr>
            <p:blipFill>
              <a:blip r:embed="rId27"/>
              <a:stretch/>
            </p:blipFill>
            <p:spPr>
              <a:xfrm>
                <a:off x="8613000" y="2954160"/>
                <a:ext cx="389880" cy="147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8740080" y="3069000"/>
                <a:ext cx="141120" cy="128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" name="TextBox 43" descr=""/>
            <p:cNvPicPr/>
            <p:nvPr/>
          </p:nvPicPr>
          <p:blipFill>
            <a:blip r:embed="rId28"/>
            <a:stretch/>
          </p:blipFill>
          <p:spPr>
            <a:xfrm>
              <a:off x="7131960" y="1396440"/>
              <a:ext cx="1870560" cy="79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Up Arrow 44"/>
            <p:cNvGrpSpPr/>
            <p:nvPr/>
          </p:nvGrpSpPr>
          <p:grpSpPr>
            <a:xfrm>
              <a:off x="7697160" y="4093560"/>
              <a:ext cx="248400" cy="333000"/>
              <a:chOff x="7697160" y="4093560"/>
              <a:chExt cx="248400" cy="333000"/>
            </a:xfrm>
          </p:grpSpPr>
          <p:pic>
            <p:nvPicPr>
              <p:cNvPr id="222" name="Up Arrow 44" descr=""/>
              <p:cNvPicPr/>
              <p:nvPr/>
            </p:nvPicPr>
            <p:blipFill>
              <a:blip r:embed="rId29"/>
              <a:stretch/>
            </p:blipFill>
            <p:spPr>
              <a:xfrm>
                <a:off x="7697160" y="4093560"/>
                <a:ext cx="24840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7786080" y="4167720"/>
                <a:ext cx="70560" cy="1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Up Arrow 45"/>
            <p:cNvGrpSpPr/>
            <p:nvPr/>
          </p:nvGrpSpPr>
          <p:grpSpPr>
            <a:xfrm>
              <a:off x="7906320" y="1214640"/>
              <a:ext cx="321840" cy="260280"/>
              <a:chOff x="7906320" y="1214640"/>
              <a:chExt cx="321840" cy="260280"/>
            </a:xfrm>
          </p:grpSpPr>
          <p:pic>
            <p:nvPicPr>
              <p:cNvPr id="225" name="Up Arrow 45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06320" y="1214640"/>
                <a:ext cx="32184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8015760" y="1288800"/>
                <a:ext cx="10584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48"/>
          <p:cNvGrpSpPr/>
          <p:nvPr/>
        </p:nvGrpSpPr>
        <p:grpSpPr>
          <a:xfrm>
            <a:off x="0" y="762120"/>
            <a:ext cx="3048120" cy="5933880"/>
            <a:chOff x="0" y="762120"/>
            <a:chExt cx="3048120" cy="5933880"/>
          </a:xfrm>
        </p:grpSpPr>
        <p:grpSp>
          <p:nvGrpSpPr>
            <p:cNvPr id="228" name="Group 47"/>
            <p:cNvGrpSpPr/>
            <p:nvPr/>
          </p:nvGrpSpPr>
          <p:grpSpPr>
            <a:xfrm>
              <a:off x="0" y="762120"/>
              <a:ext cx="3048120" cy="5933880"/>
              <a:chOff x="0" y="762120"/>
              <a:chExt cx="3048120" cy="5933880"/>
            </a:xfrm>
          </p:grpSpPr>
          <p:grpSp>
            <p:nvGrpSpPr>
              <p:cNvPr id="229" name="Rectangle 3"/>
              <p:cNvGrpSpPr/>
              <p:nvPr/>
            </p:nvGrpSpPr>
            <p:grpSpPr>
              <a:xfrm>
                <a:off x="1282320" y="762120"/>
                <a:ext cx="1765800" cy="5410440"/>
                <a:chOff x="1282320" y="762120"/>
                <a:chExt cx="1765800" cy="5410440"/>
              </a:xfrm>
            </p:grpSpPr>
            <p:pic>
              <p:nvPicPr>
                <p:cNvPr id="230" name="Rectangle 3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282320" y="762120"/>
                  <a:ext cx="1765800" cy="541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" name=""/>
                <p:cNvSpPr/>
                <p:nvPr/>
              </p:nvSpPr>
              <p:spPr>
                <a:xfrm>
                  <a:off x="1341720" y="798120"/>
                  <a:ext cx="1640520" cy="53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</a:rPr>
                    <a:t>Subsistenc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</a:rPr>
                    <a:t>household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Box 91"/>
              <p:cNvSpPr/>
              <p:nvPr/>
            </p:nvSpPr>
            <p:spPr>
              <a:xfrm>
                <a:off x="0" y="949680"/>
                <a:ext cx="134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Consump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92"/>
              <p:cNvSpPr/>
              <p:nvPr/>
            </p:nvSpPr>
            <p:spPr>
              <a:xfrm>
                <a:off x="140040" y="1631520"/>
                <a:ext cx="118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Distribu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Box 93"/>
              <p:cNvSpPr/>
              <p:nvPr/>
            </p:nvSpPr>
            <p:spPr>
              <a:xfrm>
                <a:off x="149040" y="3373200"/>
                <a:ext cx="104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Tra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Box 94"/>
              <p:cNvSpPr/>
              <p:nvPr/>
            </p:nvSpPr>
            <p:spPr>
              <a:xfrm>
                <a:off x="149040" y="4357800"/>
                <a:ext cx="1104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On-farm p</a:t>
                </a: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rodu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95"/>
              <p:cNvSpPr/>
              <p:nvPr/>
            </p:nvSpPr>
            <p:spPr>
              <a:xfrm>
                <a:off x="218880" y="549396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In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96"/>
              <p:cNvSpPr/>
              <p:nvPr/>
            </p:nvSpPr>
            <p:spPr>
              <a:xfrm>
                <a:off x="1329480" y="6099840"/>
                <a:ext cx="154476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70c0"/>
                    </a:solidFill>
                    <a:latin typeface="Calibri"/>
                  </a:rPr>
                  <a:t>Channel 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Subsistence 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&amp; consump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TextBox 92"/>
            <p:cNvSpPr/>
            <p:nvPr/>
          </p:nvSpPr>
          <p:spPr>
            <a:xfrm>
              <a:off x="156600" y="22860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00000"/>
                  </a:solidFill>
                  <a:latin typeface="Arial"/>
                </a:rPr>
                <a:t>Proces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38088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Use encouragement as an instrumental variable for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extension of credit to some farmers, randomized price subsidies through coupon distribu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andomized Mother-Baby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: M-B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4:08:11Z</dcterms:created>
  <dc:creator>gbright</dc:creator>
  <dc:description/>
  <dc:language>en-US</dc:language>
  <cp:lastModifiedBy>Dr. Rusike</cp:lastModifiedBy>
  <dcterms:modified xsi:type="dcterms:W3CDTF">2012-09-06T04:32:22Z</dcterms:modified>
  <cp:revision>532</cp:revision>
  <dc:subject/>
  <dc:title>Slide 1</dc:title>
</cp:coreProperties>
</file>